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F2D-AAB4-470F-BB2C-60EE7D60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713-E00D-418E-BD74-D1296FC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475-4599-47E6-8B9E-C013FE0C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915-9645-427D-A367-915F2563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418-F2C0-4901-9AD0-489B0C8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AFB-96CA-461C-B8CE-777897B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C47-ADBA-4C0E-8BD4-972076A0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BBF-014A-44C6-8357-880715D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71F-DD9F-4E5D-8A63-4BBBDAE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EA5-E9B7-4AEB-87DC-F034C7E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3AD-F58F-48B5-B566-3D4DF09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4EC-1638-4F93-809A-9948146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AC97-2642-41E2-9BDF-B041C52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6399-68EC-4DC3-821E-0D91122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EDA-D8E5-4707-90A6-8402B08E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593-B203-46E6-AD63-28CAE4F3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6D6-9730-4019-832B-7B46328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36E-165D-4CBB-81D5-5253DF5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895-A7E9-49F9-8CCF-0E6DB5A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0BF-FE1D-4702-A956-31AD75E1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769-821C-4781-8E28-18D32503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A07-5814-49DF-BE95-8D05D9F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2B5-14A0-4C6B-94AB-516BFDD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D64-4357-4BC0-9840-E80AF44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FB83-4CCE-4D5B-B96F-C38F8DB15671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d1e8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416-BFA6-431F-8276-75EED40DDC7C}" type="slidenum">
              <a:rPr b="0" lang="ro-RO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uri web de colaborare onlin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ce mi-ar fi ut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are fis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entar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660760"/>
                <a:gridCol w="252108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 pentru schimb de informatii,opinii intre autor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cititor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 aplicat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ot culege informatii si posta comentari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reflecti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e se poate folo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Eu</cp:lastModifiedBy>
  <dcterms:modified xsi:type="dcterms:W3CDTF">2010-12-05T18:46:51Z</dcterms:modified>
  <cp:revision>7</cp:revision>
  <dc:subject/>
  <dc:title>Compuşi hidroxilici</dc:title>
</cp:coreProperties>
</file>